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B54-C8F7-4A06-A069-F3EDDC42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8B5-CC4B-4F39-BD13-ECF3C134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327-9ACA-4B2E-BF40-919366AA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759-F4E7-48C6-89DD-FECCFCBC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2008-3C03-4DB1-828D-C4969412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FA0C-278F-44F1-AF5D-F110FF1A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5EFA-FACE-4CA7-BD80-B02832B8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BC18-BB27-4086-B888-069CA76F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C2D7-1B18-46E9-AC5A-F9FF166F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331F-5FE0-483B-9923-6EF67C6F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2ABC-D124-4319-8B93-59AA63CD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9FA-94D8-4C88-9928-13E22DD1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8634-9F13-4345-8AF5-7F7DE30B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4339-594A-409A-8B54-191D797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8B9D-3228-46D0-A3C1-3645198B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F1EC-FCC6-470A-8F5B-DDD38F6D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D196-0D81-4630-93A2-4E7D8BDB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3503D-E5B3-4AF8-9735-3347A288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23EFF-A0B6-4F32-9EB4-D5DC32BB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A5B55-03BB-49F6-86ED-DB543A63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C00FB-E369-4D9C-ACC2-CB88A7A1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80B8E-C6E8-44E9-A689-859AD786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99FD-DFBC-45A0-993F-A0E0B59B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C0277-0ECD-4BDB-AF17-2A63ED8B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F0EEF-A871-4796-A1E9-2F2AEFF2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2627C-87C3-496A-9DFE-E0F50E7B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58348-2B4B-4A24-931E-0F4CADDE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0A600-283A-4FEA-8094-09AC941C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6CF51-B756-4723-9548-CE205A62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D785B-E823-477E-9B49-2BCE6538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9E468-7AEB-4508-AB31-E3E43CEC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11AF-022E-42FC-83E0-2BE0835F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1265-9A47-4CA2-A059-44B2B410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D53-EB9C-4FF0-B38C-C9CC8ADA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DF302-4517-4865-B351-A06F6353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3D96-89B4-48A3-9B61-329A724D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5F80-0494-48D8-A5CD-C38A50E8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B7117-FB18-49A8-81E9-335244B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A959-A5F6-4234-83A9-FC2387D5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D96D-4C87-4DBF-ABF1-5869504D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BC19-303B-4313-9C0B-99633BA2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DD8C-F5EA-442A-B928-47B2FBAB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F651-8364-4ED4-8536-821EC423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17AE-BD32-4115-AEE2-CA5E5B53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16E-454F-45E7-BE0C-235FD4E5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8E9-C8F4-43E4-81D6-A36E67DC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1CD-D71E-4EC0-93E9-8BC98DFF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368-9CDB-4337-97FD-44F16CEB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57E5-910B-4F64-9056-7B139B45840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2B46-982F-4B41-AD2F-842AE334BEF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7FF3-4C70-40E5-9E2D-E6024DBCB4C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5287-1F67-4241-B262-7C733408074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1213920"/>
            <a:ext cx="77724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правление качеством иноязычного образования в школе с углублённым изучением английского язы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28560" y="4500720"/>
            <a:ext cx="60008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Учитель  английского языка МАОУ «СОШ № 65 с углублённым изучением английского языка г. Пер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Четина Любовь Никола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9 лет в школе работает летний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одской американский лагерь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HALLE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IMG_1764"/>
          <p:cNvPicPr/>
          <p:nvPr/>
        </p:nvPicPr>
        <p:blipFill>
          <a:blip r:embed="rId1"/>
          <a:stretch/>
        </p:blipFill>
        <p:spPr>
          <a:xfrm rot="20619000">
            <a:off x="534600" y="2158560"/>
            <a:ext cx="4303800" cy="3915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IMG_1930"/>
          <p:cNvPicPr/>
          <p:nvPr/>
        </p:nvPicPr>
        <p:blipFill>
          <a:blip r:embed="rId2"/>
          <a:stretch/>
        </p:blipFill>
        <p:spPr>
          <a:xfrm rot="1148400">
            <a:off x="4870440" y="2109600"/>
            <a:ext cx="38019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010"/>
          <p:cNvPicPr/>
          <p:nvPr/>
        </p:nvPicPr>
        <p:blipFill>
          <a:blip r:embed="rId1"/>
          <a:stretch/>
        </p:blipFill>
        <p:spPr>
          <a:xfrm rot="21016800">
            <a:off x="210960" y="1038240"/>
            <a:ext cx="4807080" cy="3386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014"/>
          <p:cNvPicPr/>
          <p:nvPr/>
        </p:nvPicPr>
        <p:blipFill>
          <a:blip r:embed="rId2"/>
          <a:stretch/>
        </p:blipFill>
        <p:spPr>
          <a:xfrm rot="1472400">
            <a:off x="4800600" y="3170160"/>
            <a:ext cx="3708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цес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бор сущностной и разносторонней информации о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её обработ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истематиза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глубокий анализ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гноз дальнейшего развития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ыработка мер по коррекции образовательного процесса и созданных для него условий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  управления учебно-воспитательным процессо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-помощь, выяснение неуспехов с целью дальнейшей коррекц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не только оценить и выявить недостат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иагностика, для наблюдения за развитием мотивации уч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нность мониторинга-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даже небольшой успех обучаемого не остаётся незамеченны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ониторинг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нутренней и внешней оц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щи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роек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ценка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ртфоли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нами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индивидуальных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учени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стремится обеспечит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рмаль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функционирование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чествен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остижение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обходим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уровень мотивации, здоровья и развития обучающих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ерейт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з режима функционирования в режим развит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целенаправленно занимаясь инновационной работо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Школьная модель мониторинг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который направлен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аналитическое отслеживание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цессов, определяющи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количественно-качественные измен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ой сред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разовательных технолог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ультатов образовательного процесс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ффективности стратегического и оперативного управления образовательным учреждени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ременное средство контрол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озволяет по-другому взглянуть на весь учебно-воспитательный процесс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зультаты, которых нам удалось достичь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йтинговая оценка системы зна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технология портфолио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езотметочный мониторинг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положительной мотивац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ознание своей роли и предназнач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выбирать целевые и смысловые установки для своих действий и поступков, принимать решения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ладение эффективными способами организации своего досуг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умение самостоятельно добывать, анализировать и отбирать информацию,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сведомлённость в области социально-трудовой сферы, сферы семейных отношени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формированность навыков работы в группе, выполнение различных социальных ролей в коллектив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товность к поликультурному общению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владение креативными навыками продуктивн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онально-педагогическая поисковая и исследовательская активность коллектива учителей школы постоянно растёт. Коллектив учителей иностранных языков участвует в работе в рамках сетевого взаимодействия с инновационными школ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нглийского и немецкого языков прошл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зарубежную стажировку в школах и колледжах СШ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 программе обмена «Образование. Культура. Бизнес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60% учителей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мею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ысшую квалификационную категорию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чителя ИЯ нашей школы постоянно проводят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еминары, дискуссионные площадки, мастер классы, демонстрации открытых уроков, круглые столы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 другие мероприятия на базе ОУ на краевом и городском уровнях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984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 уроках активно использу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ингапурские 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едметно-языков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интегрирова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ехнолог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илингвального обучени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IT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межкультурной сре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истанционные образовательные технолог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электронное обуч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ша школа реализует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ногоплановое и рационально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пользование носителей языка как средство повышения мотивации и эффе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неурочной деятельности по английскому языку. Эт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стреч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носителями языка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н-лайн переписка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рубежные поездк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учащихся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фпроб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 ВУЗах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ED talk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иску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4T17:26:15Z</dcterms:created>
  <dc:creator>lybov</dc:creator>
  <dc:description/>
  <dc:language>en-US</dc:language>
  <cp:lastModifiedBy>1</cp:lastModifiedBy>
  <dcterms:modified xsi:type="dcterms:W3CDTF">2019-02-07T03:17:59Z</dcterms:modified>
  <cp:revision>32</cp:revision>
  <dc:subject/>
  <dc:title>Слайд 1</dc:title>
</cp:coreProperties>
</file>